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22C-AAB0-46F9-AEF4-2E2F906F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467-27DB-4072-80C1-A5F79CD4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5BA-188F-4EE5-9CBB-32AC5484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699-FB91-4E85-BEFD-0388510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D74-2A07-4F02-9999-8DE9BC48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1738-A8C1-4BC0-8288-D77A2769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C89-E1DE-44FE-9C8D-AF19ED44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52B-ABD1-4B81-B7F8-4CF5012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EA5-B8BF-4192-8F52-CCB53D5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13D-F0C0-4911-BED0-203268D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338-E0CD-43BF-A628-6C2756E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D0E-8CAE-4398-800D-A3CA26B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48E6-9A67-4B80-885D-8618F4639F6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4EA1-C29A-4D1F-AE51-43F9B9D5408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447280" y="2782440"/>
            <a:ext cx="46810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三节 输送血液的泵——心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第</a:t>
            </a: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课时 心脏的结构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7080" y="1765440"/>
            <a:ext cx="812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四章  人体内物质的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rcRect l="14721" t="976" r="12248" b="1937"/>
          <a:stretch/>
        </p:blipFill>
        <p:spPr>
          <a:xfrm>
            <a:off x="2860560" y="487440"/>
            <a:ext cx="3068640" cy="3692520"/>
          </a:xfrm>
          <a:prstGeom prst="rect">
            <a:avLst/>
          </a:prstGeom>
          <a:ln w="0">
            <a:noFill/>
          </a:ln>
        </p:spPr>
      </p:pic>
      <p:sp>
        <p:nvSpPr>
          <p:cNvPr id="134" name="直接连接符 8"/>
          <p:cNvSpPr/>
          <p:nvPr/>
        </p:nvSpPr>
        <p:spPr>
          <a:xfrm>
            <a:off x="5205240" y="2117880"/>
            <a:ext cx="10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0"/>
          <p:cNvSpPr/>
          <p:nvPr/>
        </p:nvSpPr>
        <p:spPr>
          <a:xfrm>
            <a:off x="5205240" y="2971800"/>
            <a:ext cx="10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3"/>
          <p:cNvSpPr/>
          <p:nvPr/>
        </p:nvSpPr>
        <p:spPr>
          <a:xfrm>
            <a:off x="2763720" y="3525840"/>
            <a:ext cx="149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2763720" y="2959200"/>
            <a:ext cx="104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6453360" y="190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408360" y="27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856160" y="272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85616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30040" y="4583160"/>
            <a:ext cx="9118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脏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3956040" y="4583160"/>
            <a:ext cx="173160" cy="1601640"/>
          </a:xfrm>
          <a:custGeom>
            <a:avLst/>
            <a:gdLst>
              <a:gd name="textAreaLeft" fmla="*/ 110520 w 173160"/>
              <a:gd name="textAreaRight" fmla="*/ 173520 w 173160"/>
              <a:gd name="textAreaTop" fmla="*/ 36000 h 1601640"/>
              <a:gd name="textAreaBottom" fmla="*/ 1565640 h 16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1"/>
                  <a:pt x="10800" y="1562"/>
                </a:cubicBezTo>
                <a:lnTo>
                  <a:pt x="10800" y="9163"/>
                </a:lnTo>
                <a:cubicBezTo>
                  <a:pt x="10800" y="9944"/>
                  <a:pt x="5400" y="10725"/>
                  <a:pt x="0" y="10725"/>
                </a:cubicBezTo>
                <a:cubicBezTo>
                  <a:pt x="5400" y="10725"/>
                  <a:pt x="10800" y="11506"/>
                  <a:pt x="10800" y="12287"/>
                </a:cubicBezTo>
                <a:lnTo>
                  <a:pt x="10800" y="20038"/>
                </a:lnTo>
                <a:cubicBezTo>
                  <a:pt x="10800" y="2081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374000" y="4352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3740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4374000" y="5888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4370760" y="485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5711760" y="4883040"/>
            <a:ext cx="1384200" cy="87336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下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/>
          <a:srcRect l="14721" t="976" r="12248" b="1937"/>
          <a:stretch/>
        </p:blipFill>
        <p:spPr>
          <a:xfrm>
            <a:off x="2286000" y="630360"/>
            <a:ext cx="3068640" cy="3692520"/>
          </a:xfrm>
          <a:prstGeom prst="rect">
            <a:avLst/>
          </a:prstGeom>
          <a:ln w="0">
            <a:noFill/>
          </a:ln>
        </p:spPr>
      </p:pic>
      <p:sp>
        <p:nvSpPr>
          <p:cNvPr id="151" name="直接连接符 8"/>
          <p:cNvSpPr/>
          <p:nvPr/>
        </p:nvSpPr>
        <p:spPr>
          <a:xfrm>
            <a:off x="4630680" y="2260440"/>
            <a:ext cx="10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0"/>
          <p:cNvSpPr/>
          <p:nvPr/>
        </p:nvSpPr>
        <p:spPr>
          <a:xfrm>
            <a:off x="4630680" y="3114720"/>
            <a:ext cx="10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3"/>
          <p:cNvSpPr/>
          <p:nvPr/>
        </p:nvSpPr>
        <p:spPr>
          <a:xfrm>
            <a:off x="2189160" y="3668760"/>
            <a:ext cx="149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5"/>
          <p:cNvSpPr/>
          <p:nvPr/>
        </p:nvSpPr>
        <p:spPr>
          <a:xfrm>
            <a:off x="2189160" y="3102120"/>
            <a:ext cx="104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5878800" y="204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5833440" y="29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281240" y="2865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28124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090440" y="5603760"/>
            <a:ext cx="49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左右心房不相通，左右心室不相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090440" y="462276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观察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左、右心房，左、右心室之间是否相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952560" y="421632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讨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从心脏壁的厚薄来看，心房与心室有什么不同？左心室与右心室又有什么不同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52560" y="5603760"/>
            <a:ext cx="61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心室壁比心房壁厚，左心室壁比右心室壁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8" descr=""/>
          <p:cNvPicPr/>
          <p:nvPr/>
        </p:nvPicPr>
        <p:blipFill>
          <a:blip r:embed="rId1"/>
          <a:srcRect l="14719" t="975" r="12247" b="1936"/>
          <a:stretch/>
        </p:blipFill>
        <p:spPr>
          <a:xfrm>
            <a:off x="2933640" y="749160"/>
            <a:ext cx="2881440" cy="346716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90440" y="4270320"/>
            <a:ext cx="58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讨论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脏四个腔之间的关系是怎样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090440" y="502920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心房与心室之间有房室瓣，心房连静脉，心室连动脉。心室与动脉之间有动脉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7" descr=""/>
          <p:cNvPicPr/>
          <p:nvPr/>
        </p:nvPicPr>
        <p:blipFill>
          <a:blip r:embed="rId1"/>
          <a:srcRect l="14719" t="975" r="12247" b="1936"/>
          <a:stretch/>
        </p:blipFill>
        <p:spPr>
          <a:xfrm>
            <a:off x="2287440" y="509760"/>
            <a:ext cx="3068640" cy="369252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18"/>
          <p:cNvSpPr/>
          <p:nvPr/>
        </p:nvSpPr>
        <p:spPr>
          <a:xfrm>
            <a:off x="4632480" y="2139840"/>
            <a:ext cx="10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9"/>
          <p:cNvSpPr/>
          <p:nvPr/>
        </p:nvSpPr>
        <p:spPr>
          <a:xfrm>
            <a:off x="4632480" y="2994120"/>
            <a:ext cx="101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20"/>
          <p:cNvSpPr/>
          <p:nvPr/>
        </p:nvSpPr>
        <p:spPr>
          <a:xfrm>
            <a:off x="2189160" y="3548160"/>
            <a:ext cx="149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21"/>
          <p:cNvSpPr/>
          <p:nvPr/>
        </p:nvSpPr>
        <p:spPr>
          <a:xfrm>
            <a:off x="2189160" y="2982960"/>
            <a:ext cx="104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879520" y="1922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5834520" y="278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282320" y="27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282320" y="3308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8" descr=""/>
          <p:cNvPicPr/>
          <p:nvPr/>
        </p:nvPicPr>
        <p:blipFill>
          <a:blip r:embed="rId1"/>
          <a:srcRect l="14719" t="975" r="12247" b="1936"/>
          <a:stretch/>
        </p:blipFill>
        <p:spPr>
          <a:xfrm>
            <a:off x="2867040" y="469800"/>
            <a:ext cx="3095640" cy="3606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2598840" y="1873080"/>
            <a:ext cx="3429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心脏瓣膜类型"/>
          <p:cNvPicPr/>
          <p:nvPr/>
        </p:nvPicPr>
        <p:blipFill>
          <a:blip r:embed="rId2"/>
          <a:srcRect l="35829" t="41818" r="35829" b="24005"/>
          <a:stretch/>
        </p:blipFill>
        <p:spPr>
          <a:xfrm>
            <a:off x="1301760" y="1577880"/>
            <a:ext cx="1335240" cy="13352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096920" y="407664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观察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房与心室之间、心室与动脉之间有什么特殊的结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855520" y="2185920"/>
            <a:ext cx="1289160" cy="0"/>
          </a:xfrm>
          <a:prstGeom prst="line">
            <a:avLst/>
          </a:prstGeom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心脏瓣膜类型"/>
          <p:cNvPicPr/>
          <p:nvPr/>
        </p:nvPicPr>
        <p:blipFill>
          <a:blip r:embed="rId3"/>
          <a:srcRect l="68902" t="41818" r="3940" b="29545"/>
          <a:stretch/>
        </p:blipFill>
        <p:spPr>
          <a:xfrm>
            <a:off x="6141960" y="2549520"/>
            <a:ext cx="1386000" cy="1265400"/>
          </a:xfrm>
          <a:prstGeom prst="rect">
            <a:avLst/>
          </a:prstGeom>
          <a:ln w="0">
            <a:noFill/>
          </a:ln>
        </p:spPr>
      </p:pic>
      <p:sp>
        <p:nvSpPr>
          <p:cNvPr id="184" name="Line 8"/>
          <p:cNvSpPr/>
          <p:nvPr/>
        </p:nvSpPr>
        <p:spPr>
          <a:xfrm>
            <a:off x="5253120" y="2541600"/>
            <a:ext cx="941400" cy="174600"/>
          </a:xfrm>
          <a:prstGeom prst="line">
            <a:avLst/>
          </a:prstGeom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6094440" y="2090880"/>
            <a:ext cx="123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房室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1263600" y="2814480"/>
            <a:ext cx="1384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脉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>
            <a:off x="2866680" y="2502000"/>
            <a:ext cx="1801800" cy="0"/>
          </a:xfrm>
          <a:prstGeom prst="line">
            <a:avLst/>
          </a:prstGeom>
          <a:ln cap="sq" w="381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145040" y="3105000"/>
            <a:ext cx="2014560" cy="6480"/>
          </a:xfrm>
          <a:prstGeom prst="line">
            <a:avLst/>
          </a:prstGeom>
          <a:ln cap="sq" w="381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1096920" y="551808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房与心室之间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房室瓣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室与动脉之间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脉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757080" y="3438360"/>
            <a:ext cx="76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心脏的结构是与它的功能相适应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心脏肌肉发达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能够强有力的收缩，将血液压入全身各处，上至大脑，下至手指和脚趾；又由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动脉瓣与房室瓣的防止血液倒流的作用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因此即使你做倒立，血液也能向上流到脚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57080" y="2098800"/>
            <a:ext cx="76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们常常看到有人做倒立。倒立时，血液也能向上流到脚趾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矩形 10" descr=""/>
          <p:cNvPicPr/>
          <p:nvPr/>
        </p:nvPicPr>
        <p:blipFill>
          <a:blip r:embed="rId1"/>
          <a:stretch/>
        </p:blipFill>
        <p:spPr>
          <a:xfrm>
            <a:off x="4151160" y="1184400"/>
            <a:ext cx="2089440" cy="6746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" descr=""/>
          <p:cNvPicPr/>
          <p:nvPr/>
        </p:nvPicPr>
        <p:blipFill>
          <a:blip r:embed="rId2"/>
          <a:stretch/>
        </p:blipFill>
        <p:spPr>
          <a:xfrm>
            <a:off x="3328920" y="411120"/>
            <a:ext cx="1222560" cy="168768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478320" y="736560"/>
            <a:ext cx="2415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脏工作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135080" y="4032360"/>
            <a:ext cx="645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房室瓣：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房室瓣：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房室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脉瓣：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动脉瓣：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脉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270160" y="4046400"/>
            <a:ext cx="88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开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关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807080" y="3906720"/>
            <a:ext cx="107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关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开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7024680" y="4048200"/>
            <a:ext cx="9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开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关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466560" y="5516640"/>
            <a:ext cx="82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心室舒张时，房室瓣开放；心室收缩时，动脉瓣开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2" descr=""/>
          <p:cNvPicPr/>
          <p:nvPr/>
        </p:nvPicPr>
        <p:blipFill>
          <a:blip r:embed="rId1"/>
          <a:stretch/>
        </p:blipFill>
        <p:spPr>
          <a:xfrm>
            <a:off x="1569960" y="1620720"/>
            <a:ext cx="6189840" cy="22417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9"/>
          <p:cNvGrpSpPr/>
          <p:nvPr/>
        </p:nvGrpSpPr>
        <p:grpSpPr>
          <a:xfrm>
            <a:off x="2924280" y="1444680"/>
            <a:ext cx="1009440" cy="558720"/>
            <a:chOff x="2924280" y="1444680"/>
            <a:chExt cx="1009440" cy="558720"/>
          </a:xfrm>
        </p:grpSpPr>
        <p:sp>
          <p:nvSpPr>
            <p:cNvPr id="204" name="直接连接符 15"/>
            <p:cNvSpPr/>
            <p:nvPr/>
          </p:nvSpPr>
          <p:spPr>
            <a:xfrm>
              <a:off x="3651120" y="1873440"/>
              <a:ext cx="282600" cy="129960"/>
            </a:xfrm>
            <a:prstGeom prst="line">
              <a:avLst/>
            </a:prstGeom>
            <a:ln w="19080">
              <a:solidFill>
                <a:srgbClr val="ff4b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5"/>
            <p:cNvSpPr/>
            <p:nvPr/>
          </p:nvSpPr>
          <p:spPr>
            <a:xfrm>
              <a:off x="2924280" y="1444680"/>
              <a:ext cx="951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肺动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0"/>
          <p:cNvGrpSpPr/>
          <p:nvPr/>
        </p:nvGrpSpPr>
        <p:grpSpPr>
          <a:xfrm>
            <a:off x="4560840" y="1360440"/>
            <a:ext cx="1055880" cy="569880"/>
            <a:chOff x="4560840" y="1360440"/>
            <a:chExt cx="1055880" cy="569880"/>
          </a:xfrm>
        </p:grpSpPr>
        <p:sp>
          <p:nvSpPr>
            <p:cNvPr id="207" name="文本框 13"/>
            <p:cNvSpPr/>
            <p:nvPr/>
          </p:nvSpPr>
          <p:spPr>
            <a:xfrm>
              <a:off x="4664520" y="1360440"/>
              <a:ext cx="95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主动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20"/>
            <p:cNvSpPr/>
            <p:nvPr/>
          </p:nvSpPr>
          <p:spPr>
            <a:xfrm flipV="1">
              <a:off x="4560840" y="1797120"/>
              <a:ext cx="249120" cy="133200"/>
            </a:xfrm>
            <a:prstGeom prst="line">
              <a:avLst/>
            </a:prstGeom>
            <a:ln w="19080">
              <a:solidFill>
                <a:srgbClr val="ff4b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2"/>
          <p:cNvGrpSpPr/>
          <p:nvPr/>
        </p:nvGrpSpPr>
        <p:grpSpPr>
          <a:xfrm>
            <a:off x="5057640" y="1849320"/>
            <a:ext cx="959040" cy="587520"/>
            <a:chOff x="5057640" y="1849320"/>
            <a:chExt cx="959040" cy="587520"/>
          </a:xfrm>
        </p:grpSpPr>
        <p:sp>
          <p:nvSpPr>
            <p:cNvPr id="210" name="直接连接符 23"/>
            <p:cNvSpPr/>
            <p:nvPr/>
          </p:nvSpPr>
          <p:spPr>
            <a:xfrm>
              <a:off x="5602320" y="2308320"/>
              <a:ext cx="284040" cy="128520"/>
            </a:xfrm>
            <a:prstGeom prst="line">
              <a:avLst/>
            </a:prstGeom>
            <a:ln w="19080">
              <a:solidFill>
                <a:srgbClr val="ff4b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9"/>
            <p:cNvSpPr/>
            <p:nvPr/>
          </p:nvSpPr>
          <p:spPr>
            <a:xfrm>
              <a:off x="5057640" y="1849320"/>
              <a:ext cx="9590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上下腔静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1"/>
          <p:cNvGrpSpPr/>
          <p:nvPr/>
        </p:nvGrpSpPr>
        <p:grpSpPr>
          <a:xfrm>
            <a:off x="6994440" y="1889280"/>
            <a:ext cx="1076400" cy="490320"/>
            <a:chOff x="6994440" y="1889280"/>
            <a:chExt cx="1076400" cy="490320"/>
          </a:xfrm>
        </p:grpSpPr>
        <p:sp>
          <p:nvSpPr>
            <p:cNvPr id="213" name="文本框 20"/>
            <p:cNvSpPr/>
            <p:nvPr/>
          </p:nvSpPr>
          <p:spPr>
            <a:xfrm>
              <a:off x="7119360" y="1889280"/>
              <a:ext cx="9514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肺静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27"/>
            <p:cNvSpPr/>
            <p:nvPr/>
          </p:nvSpPr>
          <p:spPr>
            <a:xfrm flipV="1">
              <a:off x="6994440" y="2241720"/>
              <a:ext cx="249120" cy="133200"/>
            </a:xfrm>
            <a:prstGeom prst="line">
              <a:avLst/>
            </a:prstGeom>
            <a:ln w="19080">
              <a:solidFill>
                <a:srgbClr val="ff4b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生物_心脏40402"/>
          <p:cNvPicPr/>
          <p:nvPr/>
        </p:nvPicPr>
        <p:blipFill>
          <a:blip r:embed="rId1"/>
          <a:stretch/>
        </p:blipFill>
        <p:spPr>
          <a:xfrm>
            <a:off x="1177920" y="1322280"/>
            <a:ext cx="3281400" cy="45244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3"/>
          <p:cNvGrpSpPr/>
          <p:nvPr/>
        </p:nvGrpSpPr>
        <p:grpSpPr>
          <a:xfrm>
            <a:off x="1863720" y="2857680"/>
            <a:ext cx="3626280" cy="2403000"/>
            <a:chOff x="1863720" y="2857680"/>
            <a:chExt cx="3626280" cy="2403000"/>
          </a:xfrm>
        </p:grpSpPr>
        <p:grpSp>
          <p:nvGrpSpPr>
            <p:cNvPr id="218" name="Group 4"/>
            <p:cNvGrpSpPr/>
            <p:nvPr/>
          </p:nvGrpSpPr>
          <p:grpSpPr>
            <a:xfrm>
              <a:off x="1863720" y="3074760"/>
              <a:ext cx="3276720" cy="1980720"/>
              <a:chOff x="1863720" y="3074760"/>
              <a:chExt cx="3276720" cy="1980720"/>
            </a:xfrm>
          </p:grpSpPr>
          <p:sp>
            <p:nvSpPr>
              <p:cNvPr id="219" name="Line 5"/>
              <p:cNvSpPr/>
              <p:nvPr/>
            </p:nvSpPr>
            <p:spPr>
              <a:xfrm>
                <a:off x="3311640" y="307476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6"/>
              <p:cNvSpPr/>
              <p:nvPr/>
            </p:nvSpPr>
            <p:spPr>
              <a:xfrm>
                <a:off x="1863720" y="398880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"/>
              <p:cNvSpPr/>
              <p:nvPr/>
            </p:nvSpPr>
            <p:spPr>
              <a:xfrm>
                <a:off x="3692520" y="459828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"/>
              <p:cNvSpPr/>
              <p:nvPr/>
            </p:nvSpPr>
            <p:spPr>
              <a:xfrm>
                <a:off x="2778120" y="505548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9"/>
            <p:cNvSpPr/>
            <p:nvPr/>
          </p:nvSpPr>
          <p:spPr>
            <a:xfrm>
              <a:off x="5173200" y="2857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5173200" y="3838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5173200" y="442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2"/>
            <p:cNvSpPr/>
            <p:nvPr/>
          </p:nvSpPr>
          <p:spPr>
            <a:xfrm>
              <a:off x="5182920" y="4892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3160" y="2643120"/>
            <a:ext cx="11476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左心房</a:t>
            </a:r>
            <a:endParaRPr b="0" lang="en-US" sz="19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492880" y="3751200"/>
            <a:ext cx="1191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5518080" y="4340160"/>
            <a:ext cx="1130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5454720" y="4781520"/>
            <a:ext cx="1189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7"/>
          <p:cNvGrpSpPr/>
          <p:nvPr/>
        </p:nvGrpSpPr>
        <p:grpSpPr>
          <a:xfrm>
            <a:off x="2016000" y="1592280"/>
            <a:ext cx="4098960" cy="4037040"/>
            <a:chOff x="2016000" y="1592280"/>
            <a:chExt cx="4098960" cy="4037040"/>
          </a:xfrm>
        </p:grpSpPr>
        <p:grpSp>
          <p:nvGrpSpPr>
            <p:cNvPr id="232" name="Group 18"/>
            <p:cNvGrpSpPr/>
            <p:nvPr/>
          </p:nvGrpSpPr>
          <p:grpSpPr>
            <a:xfrm>
              <a:off x="2016000" y="1779480"/>
              <a:ext cx="3809880" cy="3657600"/>
              <a:chOff x="2016000" y="1779480"/>
              <a:chExt cx="3809880" cy="3657600"/>
            </a:xfrm>
          </p:grpSpPr>
          <p:sp>
            <p:nvSpPr>
              <p:cNvPr id="233" name="Line 19"/>
              <p:cNvSpPr/>
              <p:nvPr/>
            </p:nvSpPr>
            <p:spPr>
              <a:xfrm>
                <a:off x="2016000" y="2160360"/>
                <a:ext cx="373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0"/>
              <p:cNvSpPr/>
              <p:nvPr/>
            </p:nvSpPr>
            <p:spPr>
              <a:xfrm>
                <a:off x="2930400" y="2465280"/>
                <a:ext cx="281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2092320" y="5437080"/>
                <a:ext cx="3733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2854080" y="1779480"/>
                <a:ext cx="289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3997080" y="322740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 Box 24"/>
            <p:cNvSpPr/>
            <p:nvPr/>
          </p:nvSpPr>
          <p:spPr>
            <a:xfrm>
              <a:off x="5803200" y="159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5795280" y="199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5795280" y="233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5795280" y="308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8"/>
            <p:cNvSpPr/>
            <p:nvPr/>
          </p:nvSpPr>
          <p:spPr>
            <a:xfrm>
              <a:off x="5807880" y="5261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29"/>
          <p:cNvSpPr/>
          <p:nvPr/>
        </p:nvSpPr>
        <p:spPr>
          <a:xfrm>
            <a:off x="6165720" y="1517760"/>
            <a:ext cx="1170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6151680" y="1979640"/>
            <a:ext cx="1427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6165720" y="2368440"/>
            <a:ext cx="1121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6208560" y="3108240"/>
            <a:ext cx="1121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6165720" y="5183280"/>
            <a:ext cx="142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5" descr=""/>
          <p:cNvPicPr/>
          <p:nvPr/>
        </p:nvPicPr>
        <p:blipFill>
          <a:blip r:embed="rId1"/>
          <a:stretch/>
        </p:blipFill>
        <p:spPr>
          <a:xfrm>
            <a:off x="5338800" y="2523960"/>
            <a:ext cx="2562120" cy="214488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3"/>
          <p:cNvSpPr/>
          <p:nvPr/>
        </p:nvSpPr>
        <p:spPr>
          <a:xfrm>
            <a:off x="2536920" y="1579680"/>
            <a:ext cx="1455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顺口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"/>
          <p:cNvSpPr/>
          <p:nvPr/>
        </p:nvSpPr>
        <p:spPr>
          <a:xfrm>
            <a:off x="1968480" y="2467080"/>
            <a:ext cx="36338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上房下室向下通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左右房室不相通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房连静脉室连动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静房室动不倒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5"/>
          <p:cNvSpPr/>
          <p:nvPr/>
        </p:nvSpPr>
        <p:spPr>
          <a:xfrm>
            <a:off x="3637080" y="480060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房室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954600" y="25383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965400" y="297036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894280" y="401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599080" y="1573200"/>
            <a:ext cx="16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3648240" y="5427720"/>
            <a:ext cx="11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脉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519200" y="2422440"/>
            <a:ext cx="5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脏的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2127240" y="1393920"/>
            <a:ext cx="372960" cy="3817800"/>
          </a:xfrm>
          <a:custGeom>
            <a:avLst/>
            <a:gdLst>
              <a:gd name="textAreaLeft" fmla="*/ 238320 w 372960"/>
              <a:gd name="textAreaRight" fmla="*/ 373320 w 372960"/>
              <a:gd name="textAreaTop" fmla="*/ 63360 h 3817800"/>
              <a:gd name="textAreaBottom" fmla="*/ 3754440 h 38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4"/>
                  <a:pt x="10800" y="1147"/>
                </a:cubicBezTo>
                <a:lnTo>
                  <a:pt x="10800" y="9653"/>
                </a:lnTo>
                <a:cubicBezTo>
                  <a:pt x="10800" y="10227"/>
                  <a:pt x="5400" y="10800"/>
                  <a:pt x="0" y="10800"/>
                </a:cubicBezTo>
                <a:cubicBezTo>
                  <a:pt x="5400" y="10800"/>
                  <a:pt x="10800" y="11374"/>
                  <a:pt x="10800" y="11947"/>
                </a:cubicBezTo>
                <a:lnTo>
                  <a:pt x="10800" y="20453"/>
                </a:lnTo>
                <a:cubicBezTo>
                  <a:pt x="10800" y="2102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2562120" y="9856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脏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2546280" y="29304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个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2592360" y="500076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瓣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3651120" y="1893960"/>
            <a:ext cx="270000" cy="2224080"/>
          </a:xfrm>
          <a:custGeom>
            <a:avLst/>
            <a:gdLst>
              <a:gd name="textAreaLeft" fmla="*/ 172440 w 270000"/>
              <a:gd name="textAreaRight" fmla="*/ 270360 w 270000"/>
              <a:gd name="textAreaTop" fmla="*/ 37080 h 2224080"/>
              <a:gd name="textAreaBottom" fmla="*/ 2187000 h 22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0"/>
                  <a:pt x="10800" y="1159"/>
                </a:cubicBezTo>
                <a:lnTo>
                  <a:pt x="10800" y="9641"/>
                </a:lnTo>
                <a:cubicBezTo>
                  <a:pt x="10800" y="10221"/>
                  <a:pt x="5400" y="10800"/>
                  <a:pt x="0" y="10800"/>
                </a:cubicBezTo>
                <a:cubicBezTo>
                  <a:pt x="5400" y="10800"/>
                  <a:pt x="10800" y="11380"/>
                  <a:pt x="10800" y="11959"/>
                </a:cubicBezTo>
                <a:lnTo>
                  <a:pt x="10800" y="20441"/>
                </a:lnTo>
                <a:cubicBezTo>
                  <a:pt x="10800" y="2102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3444840" y="4986360"/>
            <a:ext cx="187200" cy="746280"/>
          </a:xfrm>
          <a:custGeom>
            <a:avLst/>
            <a:gdLst>
              <a:gd name="textAreaLeft" fmla="*/ 119520 w 187200"/>
              <a:gd name="textAreaRight" fmla="*/ 187560 w 187200"/>
              <a:gd name="textAreaTop" fmla="*/ 15120 h 746280"/>
              <a:gd name="textAreaBottom" fmla="*/ 731160 h 74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2"/>
                  <a:pt x="10800" y="1423"/>
                </a:cubicBezTo>
                <a:lnTo>
                  <a:pt x="10800" y="9377"/>
                </a:lnTo>
                <a:cubicBezTo>
                  <a:pt x="10800" y="10089"/>
                  <a:pt x="5400" y="10800"/>
                  <a:pt x="0" y="10800"/>
                </a:cubicBezTo>
                <a:cubicBezTo>
                  <a:pt x="5400" y="10800"/>
                  <a:pt x="10800" y="11512"/>
                  <a:pt x="10800" y="12223"/>
                </a:cubicBezTo>
                <a:lnTo>
                  <a:pt x="10800" y="20177"/>
                </a:lnTo>
                <a:cubicBezTo>
                  <a:pt x="10800" y="2088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4791240" y="4986360"/>
            <a:ext cx="180720" cy="776160"/>
          </a:xfrm>
          <a:custGeom>
            <a:avLst/>
            <a:gdLst>
              <a:gd name="textAreaLeft" fmla="*/ 0 w 180720"/>
              <a:gd name="textAreaRight" fmla="*/ 65160 w 180720"/>
              <a:gd name="textAreaTop" fmla="*/ 17280 h 776160"/>
              <a:gd name="textAreaBottom" fmla="*/ 758880 h 7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6"/>
                  <a:pt x="10800" y="1552"/>
                </a:cubicBezTo>
                <a:lnTo>
                  <a:pt x="10800" y="9248"/>
                </a:lnTo>
                <a:cubicBezTo>
                  <a:pt x="10800" y="10024"/>
                  <a:pt x="16200" y="10800"/>
                  <a:pt x="21600" y="10800"/>
                </a:cubicBezTo>
                <a:cubicBezTo>
                  <a:pt x="16200" y="10800"/>
                  <a:pt x="10800" y="11576"/>
                  <a:pt x="10800" y="12352"/>
                </a:cubicBezTo>
                <a:lnTo>
                  <a:pt x="10800" y="20048"/>
                </a:lnTo>
                <a:cubicBezTo>
                  <a:pt x="10800" y="2082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5008680" y="5129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止血液倒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4003560" y="1582560"/>
            <a:ext cx="11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3994200" y="400068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057640" y="1814400"/>
            <a:ext cx="720720" cy="0"/>
          </a:xfrm>
          <a:prstGeom prst="line">
            <a:avLst/>
          </a:prstGeom>
          <a:ln w="223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5095800" y="4241880"/>
            <a:ext cx="719280" cy="0"/>
          </a:xfrm>
          <a:prstGeom prst="line">
            <a:avLst/>
          </a:prstGeom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5713560" y="296064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5035680" y="2774880"/>
            <a:ext cx="722160" cy="0"/>
          </a:xfrm>
          <a:prstGeom prst="line">
            <a:avLst/>
          </a:prstGeom>
          <a:ln w="22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"/>
          <p:cNvSpPr/>
          <p:nvPr/>
        </p:nvSpPr>
        <p:spPr>
          <a:xfrm>
            <a:off x="5035680" y="3200400"/>
            <a:ext cx="720720" cy="0"/>
          </a:xfrm>
          <a:prstGeom prst="line">
            <a:avLst/>
          </a:prstGeom>
          <a:ln w="223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757840" y="255420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9"/>
          <p:cNvSpPr/>
          <p:nvPr/>
        </p:nvSpPr>
        <p:spPr>
          <a:xfrm>
            <a:off x="4606920" y="20368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4583160" y="34876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1"/>
          <p:cNvSpPr/>
          <p:nvPr/>
        </p:nvSpPr>
        <p:spPr>
          <a:xfrm flipH="1">
            <a:off x="4468680" y="2058840"/>
            <a:ext cx="5040" cy="547920"/>
          </a:xfrm>
          <a:prstGeom prst="line">
            <a:avLst/>
          </a:prstGeom>
          <a:ln w="22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4375080" y="9889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心肌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3"/>
          <p:cNvSpPr/>
          <p:nvPr/>
        </p:nvSpPr>
        <p:spPr>
          <a:xfrm flipH="1">
            <a:off x="4498560" y="3435480"/>
            <a:ext cx="4680" cy="547560"/>
          </a:xfrm>
          <a:prstGeom prst="line">
            <a:avLst/>
          </a:prstGeom>
          <a:ln w="22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2"/>
          <p:cNvSpPr/>
          <p:nvPr/>
        </p:nvSpPr>
        <p:spPr>
          <a:xfrm>
            <a:off x="3686040" y="1281240"/>
            <a:ext cx="689040" cy="0"/>
          </a:xfrm>
          <a:prstGeom prst="line">
            <a:avLst/>
          </a:prstGeom>
          <a:ln w="22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9"/>
          <p:cNvSpPr/>
          <p:nvPr/>
        </p:nvSpPr>
        <p:spPr>
          <a:xfrm>
            <a:off x="3174840" y="1186200"/>
            <a:ext cx="287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复习回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0320" y="1962000"/>
          <a:ext cx="7953480" cy="3610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992160"/>
                <a:gridCol w="1503360"/>
                <a:gridCol w="234972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管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弹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血流速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91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动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静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93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毛细血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936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93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"/>
          <p:cNvSpPr/>
          <p:nvPr/>
        </p:nvSpPr>
        <p:spPr>
          <a:xfrm>
            <a:off x="4138560" y="302724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73720" y="302724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6594480" y="2765520"/>
            <a:ext cx="1841400" cy="921600"/>
            <a:chOff x="6594480" y="2765520"/>
            <a:chExt cx="1841400" cy="921600"/>
          </a:xfrm>
        </p:grpSpPr>
        <p:sp>
          <p:nvSpPr>
            <p:cNvPr id="48" name="Text Box 2"/>
            <p:cNvSpPr/>
            <p:nvPr/>
          </p:nvSpPr>
          <p:spPr>
            <a:xfrm>
              <a:off x="7562880" y="322740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全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6786360" y="2765520"/>
              <a:ext cx="155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运输血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6594480" y="3227400"/>
              <a:ext cx="8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心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7300800" y="3487680"/>
              <a:ext cx="2664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33"/>
          <p:cNvSpPr/>
          <p:nvPr/>
        </p:nvSpPr>
        <p:spPr>
          <a:xfrm>
            <a:off x="4138560" y="406548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5373720" y="403236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0"/>
          <p:cNvSpPr/>
          <p:nvPr/>
        </p:nvSpPr>
        <p:spPr>
          <a:xfrm>
            <a:off x="4022640" y="497052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极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1"/>
          <p:cNvSpPr/>
          <p:nvPr/>
        </p:nvSpPr>
        <p:spPr>
          <a:xfrm>
            <a:off x="5272200" y="4960800"/>
            <a:ext cx="8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最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6369120" y="49608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物质交换的场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"/>
          <p:cNvGrpSpPr/>
          <p:nvPr/>
        </p:nvGrpSpPr>
        <p:grpSpPr>
          <a:xfrm>
            <a:off x="6618240" y="3803760"/>
            <a:ext cx="1739880" cy="932760"/>
            <a:chOff x="6618240" y="3803760"/>
            <a:chExt cx="1739880" cy="932760"/>
          </a:xfrm>
        </p:grpSpPr>
        <p:sp>
          <p:nvSpPr>
            <p:cNvPr id="58" name="Text Box 2"/>
            <p:cNvSpPr/>
            <p:nvPr/>
          </p:nvSpPr>
          <p:spPr>
            <a:xfrm>
              <a:off x="6618240" y="427680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全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6804000" y="3803760"/>
              <a:ext cx="155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运输血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7497720" y="427680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心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7319880" y="4527720"/>
              <a:ext cx="2664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3"/>
          <p:cNvSpPr/>
          <p:nvPr/>
        </p:nvSpPr>
        <p:spPr>
          <a:xfrm>
            <a:off x="2733840" y="30272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较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2"/>
          <p:cNvSpPr/>
          <p:nvPr/>
        </p:nvSpPr>
        <p:spPr>
          <a:xfrm>
            <a:off x="2701800" y="4065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较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9"/>
          <p:cNvSpPr/>
          <p:nvPr/>
        </p:nvSpPr>
        <p:spPr>
          <a:xfrm>
            <a:off x="2554200" y="4960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非常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24580" descr=""/>
          <p:cNvPicPr/>
          <p:nvPr/>
        </p:nvPicPr>
        <p:blipFill>
          <a:blip r:embed="rId1"/>
          <a:srcRect l="33749" t="13333" r="23749" b="15002"/>
          <a:stretch/>
        </p:blipFill>
        <p:spPr>
          <a:xfrm>
            <a:off x="5334120" y="609480"/>
            <a:ext cx="3809880" cy="518184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4581"/>
          <p:cNvSpPr/>
          <p:nvPr/>
        </p:nvSpPr>
        <p:spPr>
          <a:xfrm>
            <a:off x="5928840" y="2913120"/>
            <a:ext cx="34524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4582"/>
          <p:cNvSpPr/>
          <p:nvPr/>
        </p:nvSpPr>
        <p:spPr>
          <a:xfrm>
            <a:off x="7528680" y="2227320"/>
            <a:ext cx="33300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4583"/>
          <p:cNvSpPr/>
          <p:nvPr/>
        </p:nvSpPr>
        <p:spPr>
          <a:xfrm>
            <a:off x="6766920" y="4284720"/>
            <a:ext cx="34524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4584"/>
          <p:cNvSpPr/>
          <p:nvPr/>
        </p:nvSpPr>
        <p:spPr>
          <a:xfrm>
            <a:off x="7757640" y="3598920"/>
            <a:ext cx="34524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4585"/>
          <p:cNvSpPr/>
          <p:nvPr/>
        </p:nvSpPr>
        <p:spPr>
          <a:xfrm>
            <a:off x="1619280" y="765000"/>
            <a:ext cx="63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4586"/>
          <p:cNvSpPr/>
          <p:nvPr/>
        </p:nvSpPr>
        <p:spPr>
          <a:xfrm>
            <a:off x="474336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"/>
          <p:cNvSpPr/>
          <p:nvPr/>
        </p:nvSpPr>
        <p:spPr>
          <a:xfrm>
            <a:off x="320760" y="1319040"/>
            <a:ext cx="5607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心脏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依次为 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左心房、右心房、左心室、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右心房、左心房、左心室、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右心房、左心房、右心室、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左心房、右心房、右心室、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25602"/>
          <p:cNvSpPr/>
          <p:nvPr/>
        </p:nvSpPr>
        <p:spPr>
          <a:xfrm>
            <a:off x="441360" y="766800"/>
            <a:ext cx="482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心脏相连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血管依次为 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动脉、肺动脉、肺静脉、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静脉、主动脉、肺动脉、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动脉、肺静脉、肺动脉、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静脉、肺动脉、主动脉、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25603" descr=""/>
          <p:cNvPicPr/>
          <p:nvPr/>
        </p:nvPicPr>
        <p:blipFill>
          <a:blip r:embed="rId1"/>
          <a:srcRect l="33749" t="13333" r="23749" b="15002"/>
          <a:stretch/>
        </p:blipFill>
        <p:spPr>
          <a:xfrm>
            <a:off x="5262480" y="8380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25604"/>
          <p:cNvSpPr/>
          <p:nvPr/>
        </p:nvSpPr>
        <p:spPr>
          <a:xfrm>
            <a:off x="6466680" y="1312920"/>
            <a:ext cx="33300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5605"/>
          <p:cNvSpPr/>
          <p:nvPr/>
        </p:nvSpPr>
        <p:spPr>
          <a:xfrm>
            <a:off x="7092000" y="1828800"/>
            <a:ext cx="32076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5606"/>
          <p:cNvSpPr/>
          <p:nvPr/>
        </p:nvSpPr>
        <p:spPr>
          <a:xfrm>
            <a:off x="8082720" y="2286000"/>
            <a:ext cx="35892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5607"/>
          <p:cNvSpPr/>
          <p:nvPr/>
        </p:nvSpPr>
        <p:spPr>
          <a:xfrm>
            <a:off x="5933160" y="4894200"/>
            <a:ext cx="358920" cy="4230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5608"/>
          <p:cNvSpPr/>
          <p:nvPr/>
        </p:nvSpPr>
        <p:spPr>
          <a:xfrm>
            <a:off x="1817640" y="141912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61800" y="544320"/>
            <a:ext cx="8353440" cy="35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在一次心跳过程中，心房和心室都舒张时，则（　</a:t>
            </a:r>
            <a:r>
              <a:rPr b="0" lang="en-US" sz="2100" spc="-1" strike="noStrike">
                <a:solidFill>
                  <a:srgbClr val="ff0000"/>
                </a:solidFill>
                <a:latin typeface="Franklin Gothic Medium"/>
              </a:rPr>
              <a:t>A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　）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A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房室瓣开放，动脉瓣关闭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B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房室瓣开放，动脉瓣开放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C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房室瓣关闭，动脉瓣开放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D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房室瓣关闭，动脉瓣关闭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1" name="图片 3" descr=""/>
          <p:cNvPicPr/>
          <p:nvPr/>
        </p:nvPicPr>
        <p:blipFill>
          <a:blip r:embed="rId1"/>
          <a:stretch/>
        </p:blipFill>
        <p:spPr>
          <a:xfrm>
            <a:off x="1557360" y="1163520"/>
            <a:ext cx="465120" cy="3510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4" descr=""/>
          <p:cNvPicPr/>
          <p:nvPr/>
        </p:nvPicPr>
        <p:blipFill>
          <a:blip r:embed="rId2"/>
          <a:stretch/>
        </p:blipFill>
        <p:spPr>
          <a:xfrm>
            <a:off x="671400" y="4707000"/>
            <a:ext cx="4808520" cy="15318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5" descr=""/>
          <p:cNvPicPr/>
          <p:nvPr/>
        </p:nvPicPr>
        <p:blipFill>
          <a:blip r:embed="rId3"/>
          <a:stretch/>
        </p:blipFill>
        <p:spPr>
          <a:xfrm>
            <a:off x="476280" y="4130640"/>
            <a:ext cx="709560" cy="41292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7" descr=""/>
          <p:cNvPicPr/>
          <p:nvPr/>
        </p:nvPicPr>
        <p:blipFill>
          <a:blip r:embed="rId4"/>
          <a:stretch/>
        </p:blipFill>
        <p:spPr>
          <a:xfrm>
            <a:off x="1185840" y="4064040"/>
            <a:ext cx="1828800" cy="4190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8" descr=""/>
          <p:cNvPicPr/>
          <p:nvPr/>
        </p:nvPicPr>
        <p:blipFill>
          <a:blip r:embed="rId5"/>
          <a:stretch/>
        </p:blipFill>
        <p:spPr>
          <a:xfrm>
            <a:off x="274680" y="4089240"/>
            <a:ext cx="5443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90400" y="2016000"/>
            <a:ext cx="5414760" cy="13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形状像桃子，头上插管子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169560" indent="-16956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不辞辛与苦，昼夜跳不息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3745080" y="1104840"/>
            <a:ext cx="165384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/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黑体"/>
              </a:rPr>
              <a:t>猜谜语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00640" y="3811680"/>
            <a:ext cx="29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打一人体器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14920" y="4932360"/>
            <a:ext cx="23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谜底：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8" descr=""/>
          <p:cNvPicPr/>
          <p:nvPr/>
        </p:nvPicPr>
        <p:blipFill>
          <a:blip r:embed="rId3"/>
          <a:stretch/>
        </p:blipFill>
        <p:spPr>
          <a:xfrm>
            <a:off x="1490760" y="381168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1"/>
          <a:stretch/>
        </p:blipFill>
        <p:spPr>
          <a:xfrm>
            <a:off x="3281400" y="4979880"/>
            <a:ext cx="2882880" cy="7304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720800" y="1525680"/>
            <a:ext cx="5180040" cy="304956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28640" y="2303640"/>
            <a:ext cx="768672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能够描述心脏的结构和功能，说明心脏与功能相适应的特点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 marL="856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能概述心脏的生理特征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3735360" y="139536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892080" y="1546200"/>
            <a:ext cx="2400480" cy="26859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" descr=""/>
          <p:cNvPicPr/>
          <p:nvPr/>
        </p:nvPicPr>
        <p:blipFill>
          <a:blip r:embed="rId2"/>
          <a:stretch/>
        </p:blipFill>
        <p:spPr>
          <a:xfrm>
            <a:off x="4856040" y="1620720"/>
            <a:ext cx="3405240" cy="2586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335240" y="4473720"/>
            <a:ext cx="59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置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位于胸腔中部偏左下方，两肺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49280" y="5103720"/>
            <a:ext cx="32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态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形如桃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小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如人的拳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"/>
          <p:cNvSpPr/>
          <p:nvPr/>
        </p:nvSpPr>
        <p:spPr>
          <a:xfrm>
            <a:off x="3768840" y="2624040"/>
            <a:ext cx="830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6"/>
          <p:cNvSpPr/>
          <p:nvPr/>
        </p:nvSpPr>
        <p:spPr>
          <a:xfrm flipV="1">
            <a:off x="2095560" y="2909880"/>
            <a:ext cx="160164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1"/>
          <p:cNvSpPr/>
          <p:nvPr/>
        </p:nvSpPr>
        <p:spPr>
          <a:xfrm>
            <a:off x="4599000" y="2886120"/>
            <a:ext cx="17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147"/>
          <p:cNvGrpSpPr/>
          <p:nvPr/>
        </p:nvGrpSpPr>
        <p:grpSpPr>
          <a:xfrm>
            <a:off x="382680" y="566640"/>
            <a:ext cx="2857320" cy="807120"/>
            <a:chOff x="382680" y="566640"/>
            <a:chExt cx="2857320" cy="807120"/>
          </a:xfrm>
        </p:grpSpPr>
        <p:sp>
          <p:nvSpPr>
            <p:cNvPr id="86" name="矩形 7"/>
            <p:cNvSpPr/>
            <p:nvPr/>
          </p:nvSpPr>
          <p:spPr>
            <a:xfrm>
              <a:off x="942120" y="566640"/>
              <a:ext cx="1671480" cy="7614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6"/>
            <p:cNvSpPr/>
            <p:nvPr/>
          </p:nvSpPr>
          <p:spPr>
            <a:xfrm>
              <a:off x="382680" y="854640"/>
              <a:ext cx="524160" cy="48204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7"/>
            <p:cNvSpPr/>
            <p:nvPr/>
          </p:nvSpPr>
          <p:spPr>
            <a:xfrm>
              <a:off x="744480" y="80388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6151"/>
            <p:cNvSpPr/>
            <p:nvPr/>
          </p:nvSpPr>
          <p:spPr>
            <a:xfrm>
              <a:off x="2733120" y="840600"/>
              <a:ext cx="50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心脏的位置、形状、大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2"/>
            <p:cNvSpPr/>
            <p:nvPr/>
          </p:nvSpPr>
          <p:spPr>
            <a:xfrm>
              <a:off x="382680" y="8532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782800" y="3297240"/>
            <a:ext cx="619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心脏的外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4245120" y="2435400"/>
            <a:ext cx="2827080" cy="381456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6147"/>
          <p:cNvGrpSpPr/>
          <p:nvPr/>
        </p:nvGrpSpPr>
        <p:grpSpPr>
          <a:xfrm>
            <a:off x="382680" y="566640"/>
            <a:ext cx="3014640" cy="807120"/>
            <a:chOff x="382680" y="566640"/>
            <a:chExt cx="3014640" cy="807120"/>
          </a:xfrm>
        </p:grpSpPr>
        <p:sp>
          <p:nvSpPr>
            <p:cNvPr id="95" name="矩形 7"/>
            <p:cNvSpPr/>
            <p:nvPr/>
          </p:nvSpPr>
          <p:spPr>
            <a:xfrm>
              <a:off x="942120" y="566640"/>
              <a:ext cx="1671840" cy="7614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6"/>
            <p:cNvSpPr/>
            <p:nvPr/>
          </p:nvSpPr>
          <p:spPr>
            <a:xfrm>
              <a:off x="382680" y="854640"/>
              <a:ext cx="524160" cy="48204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7"/>
            <p:cNvSpPr/>
            <p:nvPr/>
          </p:nvSpPr>
          <p:spPr>
            <a:xfrm>
              <a:off x="744480" y="80388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1"/>
            <p:cNvSpPr/>
            <p:nvPr/>
          </p:nvSpPr>
          <p:spPr>
            <a:xfrm>
              <a:off x="1509840" y="840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心脏的结构和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152"/>
            <p:cNvSpPr/>
            <p:nvPr/>
          </p:nvSpPr>
          <p:spPr>
            <a:xfrm>
              <a:off x="382680" y="8532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矩形 8" descr=""/>
          <p:cNvPicPr/>
          <p:nvPr/>
        </p:nvPicPr>
        <p:blipFill>
          <a:blip r:embed="rId2"/>
          <a:stretch/>
        </p:blipFill>
        <p:spPr>
          <a:xfrm>
            <a:off x="3571920" y="1579680"/>
            <a:ext cx="2089080" cy="6728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9" descr=""/>
          <p:cNvPicPr/>
          <p:nvPr/>
        </p:nvPicPr>
        <p:blipFill>
          <a:blip r:embed="rId3"/>
          <a:stretch/>
        </p:blipFill>
        <p:spPr>
          <a:xfrm>
            <a:off x="2782800" y="1314360"/>
            <a:ext cx="1168560" cy="11764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rcRect l="14721" t="976" r="12248" b="1937"/>
          <a:stretch/>
        </p:blipFill>
        <p:spPr>
          <a:xfrm>
            <a:off x="2585880" y="1096920"/>
            <a:ext cx="3645000" cy="438804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3"/>
          <p:cNvSpPr/>
          <p:nvPr/>
        </p:nvSpPr>
        <p:spPr>
          <a:xfrm>
            <a:off x="4643280" y="1698480"/>
            <a:ext cx="173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4"/>
          <p:cNvSpPr/>
          <p:nvPr/>
        </p:nvSpPr>
        <p:spPr>
          <a:xfrm>
            <a:off x="4835520" y="2155680"/>
            <a:ext cx="153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6"/>
          <p:cNvSpPr/>
          <p:nvPr/>
        </p:nvSpPr>
        <p:spPr>
          <a:xfrm>
            <a:off x="5762520" y="2768760"/>
            <a:ext cx="6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8"/>
          <p:cNvSpPr/>
          <p:nvPr/>
        </p:nvSpPr>
        <p:spPr>
          <a:xfrm>
            <a:off x="5365800" y="3165480"/>
            <a:ext cx="10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0"/>
          <p:cNvSpPr/>
          <p:nvPr/>
        </p:nvSpPr>
        <p:spPr>
          <a:xfrm>
            <a:off x="5365800" y="4019400"/>
            <a:ext cx="10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3"/>
          <p:cNvSpPr/>
          <p:nvPr/>
        </p:nvSpPr>
        <p:spPr>
          <a:xfrm>
            <a:off x="2454120" y="4586400"/>
            <a:ext cx="166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>
            <a:off x="2454120" y="4019400"/>
            <a:ext cx="12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7"/>
          <p:cNvSpPr/>
          <p:nvPr/>
        </p:nvSpPr>
        <p:spPr>
          <a:xfrm>
            <a:off x="2454120" y="222732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9"/>
          <p:cNvSpPr/>
          <p:nvPr/>
        </p:nvSpPr>
        <p:spPr>
          <a:xfrm>
            <a:off x="2454120" y="5175360"/>
            <a:ext cx="12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8"/>
          <p:cNvGrpSpPr/>
          <p:nvPr/>
        </p:nvGrpSpPr>
        <p:grpSpPr>
          <a:xfrm>
            <a:off x="2490480" y="2906640"/>
            <a:ext cx="351000" cy="371160"/>
            <a:chOff x="2490480" y="2906640"/>
            <a:chExt cx="351000" cy="371160"/>
          </a:xfrm>
        </p:grpSpPr>
        <p:sp>
          <p:nvSpPr>
            <p:cNvPr id="114" name="直接连接符 29"/>
            <p:cNvSpPr/>
            <p:nvPr/>
          </p:nvSpPr>
          <p:spPr>
            <a:xfrm flipH="1">
              <a:off x="2490840" y="2906640"/>
              <a:ext cx="350640" cy="18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30"/>
            <p:cNvSpPr/>
            <p:nvPr/>
          </p:nvSpPr>
          <p:spPr>
            <a:xfrm flipH="1" flipV="1">
              <a:off x="2490480" y="3088080"/>
              <a:ext cx="290520" cy="18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1"/>
          <p:cNvSpPr/>
          <p:nvPr/>
        </p:nvSpPr>
        <p:spPr>
          <a:xfrm>
            <a:off x="6613200" y="1471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主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613200" y="192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肺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613200" y="2538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613200" y="2948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6567120" y="380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054080" y="196704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0320" y="2857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肺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70320" y="378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570320" y="434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心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31760" y="4952880"/>
            <a:ext cx="14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下腔静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4"/>
          <p:cNvSpPr/>
          <p:nvPr/>
        </p:nvSpPr>
        <p:spPr>
          <a:xfrm>
            <a:off x="4579920" y="5568840"/>
            <a:ext cx="2481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脏解剖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6"/>
          <p:cNvSpPr/>
          <p:nvPr/>
        </p:nvSpPr>
        <p:spPr>
          <a:xfrm>
            <a:off x="911160" y="2209680"/>
            <a:ext cx="7381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心脏壁主要是由什么组织构成的？由此可以推断它具有什么功能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911160" y="3778200"/>
            <a:ext cx="7215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心脏壁主要由肌肉构成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。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肌肉具有收缩和舒张的功能，因此，心脏能够推动血液在血管里循环流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组合 18" descr=""/>
          <p:cNvPicPr/>
          <p:nvPr/>
        </p:nvPicPr>
        <p:blipFill>
          <a:blip r:embed="rId1"/>
          <a:stretch/>
        </p:blipFill>
        <p:spPr>
          <a:xfrm>
            <a:off x="2830680" y="917640"/>
            <a:ext cx="343980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3"/>
          <p:cNvSpPr/>
          <p:nvPr/>
        </p:nvSpPr>
        <p:spPr>
          <a:xfrm>
            <a:off x="4024440" y="1720800"/>
            <a:ext cx="1655640" cy="0"/>
          </a:xfrm>
          <a:prstGeom prst="line">
            <a:avLst/>
          </a:prstGeom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2:04:09Z</dcterms:modified>
  <cp:revision>9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